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9.jpeg" ContentType="image/jpe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24D1-64F7-4686-9EAC-CF819077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5415-0218-4D1D-B514-DBB3A2F0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0A7B-825F-4E96-9869-A63E8A47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39C0-80F4-4D89-BEDB-684E0AD9A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3FC7-5DB2-4427-985A-F88C7E28E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0FCA-ECFF-461D-92DE-FA9F7E00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7BB6-7D67-4201-94A9-17DCDFF7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93CD-C742-44A8-A744-3AC4662D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3646-BF2A-4E22-8BA8-F4D58460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344E-E3F7-4B39-94A5-A9AE458C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FCB8-2BAA-4DC3-9AC9-50953F75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3802-A656-4523-A3D3-7BA7D4FA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1F14-F492-48E7-88F0-124FD82C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7B03-9ECE-4021-A00C-0E50AAE9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7EB4-2DEF-4A61-BEF1-6580AC2D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C9CA-FDEB-4DA6-B5A9-AC5BF1A87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7729-F542-4035-9843-BD6F09DD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2A33-4129-4DB7-9F74-A1F0B74B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00E3-21A6-41D4-95A6-238263F6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0D3E-935A-4B3B-98B5-1AE4D8E1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E9C7-0891-4FA9-AA09-59F1CBEA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CF41-BAF0-4E85-9D6A-33B1E79F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736A-EEF1-44E7-BEBD-ACFE86F6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CFED-2BAC-48A7-9CAA-8F2DADA0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88F5-569F-4B68-B8A6-62D4937A541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250920" y="620640"/>
            <a:ext cx="8893080" cy="583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0CE3-07A6-4B8E-85B0-22D9EDEC926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4"/>
          <p:cNvSpPr/>
          <p:nvPr/>
        </p:nvSpPr>
        <p:spPr>
          <a:xfrm>
            <a:off x="644400" y="2852640"/>
            <a:ext cx="288000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755640" y="1341360"/>
            <a:ext cx="8031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Verdana"/>
              </a:rPr>
              <a:t>Система контрол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336699"/>
                </a:solidFill>
                <a:latin typeface="Verdana"/>
              </a:rPr>
              <a:t>и мониторинга качества знаний </a:t>
            </a:r>
            <a:r>
              <a:rPr b="1" lang="en-US" sz="4000" spc="-1" strike="noStrike">
                <a:solidFill>
                  <a:srgbClr val="336699"/>
                </a:solidFill>
                <a:latin typeface="Verdana"/>
              </a:rPr>
              <a:t>PROCLass</a:t>
            </a:r>
            <a:r>
              <a:rPr b="1" lang="ru-RU" sz="4000" spc="-1" strike="noStrike">
                <a:solidFill>
                  <a:srgbClr val="336699"/>
                </a:solidFill>
                <a:latin typeface="Verdana"/>
              </a:rPr>
              <a:t>- современное средство оценки знаний обучающих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Group 21"/>
          <p:cNvGrpSpPr/>
          <p:nvPr/>
        </p:nvGrpSpPr>
        <p:grpSpPr>
          <a:xfrm>
            <a:off x="-308520" y="-759960"/>
            <a:ext cx="9452520" cy="7617960"/>
            <a:chOff x="-308520" y="-759960"/>
            <a:chExt cx="9452520" cy="7617960"/>
          </a:xfrm>
        </p:grpSpPr>
        <p:sp>
          <p:nvSpPr>
            <p:cNvPr id="88" name="Line 22"/>
            <p:cNvSpPr/>
            <p:nvPr/>
          </p:nvSpPr>
          <p:spPr>
            <a:xfrm>
              <a:off x="0" y="6392880"/>
              <a:ext cx="8675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>
              <a:off x="0" y="6443640"/>
              <a:ext cx="88930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>
              <a:off x="290520" y="1268280"/>
              <a:ext cx="0" cy="558972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>
              <a:off x="236520" y="1196280"/>
              <a:ext cx="0" cy="56610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2" name="Group 26"/>
            <p:cNvGrpSpPr/>
            <p:nvPr/>
          </p:nvGrpSpPr>
          <p:grpSpPr>
            <a:xfrm>
              <a:off x="-308520" y="-759960"/>
              <a:ext cx="2625480" cy="2675880"/>
              <a:chOff x="-308520" y="-759960"/>
              <a:chExt cx="2625480" cy="2675880"/>
            </a:xfrm>
          </p:grpSpPr>
          <p:sp>
            <p:nvSpPr>
              <p:cNvPr id="93" name="Arc 27"/>
              <p:cNvSpPr/>
              <p:nvPr/>
            </p:nvSpPr>
            <p:spPr>
              <a:xfrm rot="2524800">
                <a:off x="149040" y="-325440"/>
                <a:ext cx="1509120" cy="1845000"/>
              </a:xfrm>
              <a:custGeom>
                <a:avLst/>
                <a:gdLst>
                  <a:gd name="textAreaLeft" fmla="*/ 0 w 1509120"/>
                  <a:gd name="textAreaRight" fmla="*/ 1509480 w 1509120"/>
                  <a:gd name="textAreaTop" fmla="*/ 0 h 1845000"/>
                  <a:gd name="textAreaBottom" fmla="*/ 1845360 h 18450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</a:path>
                  <a:path stroke="0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  <a:lnTo>
                      <a:pt x="21600" y="21600"/>
                    </a:lnTo>
                    <a:lnTo>
                      <a:pt x="31119" y="2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4" name="Picture 28" descr="j0395941%5b1%5d"/>
              <p:cNvPicPr/>
              <p:nvPr/>
            </p:nvPicPr>
            <p:blipFill>
              <a:blip r:embed="rId1"/>
              <a:stretch/>
            </p:blipFill>
            <p:spPr>
              <a:xfrm>
                <a:off x="27000" y="8280"/>
                <a:ext cx="1504800" cy="119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Arc 29"/>
              <p:cNvSpPr/>
              <p:nvPr/>
            </p:nvSpPr>
            <p:spPr>
              <a:xfrm rot="2524800">
                <a:off x="240120" y="-534600"/>
                <a:ext cx="1527840" cy="2225520"/>
              </a:xfrm>
              <a:custGeom>
                <a:avLst/>
                <a:gdLst>
                  <a:gd name="textAreaLeft" fmla="*/ 0 w 1527840"/>
                  <a:gd name="textAreaRight" fmla="*/ 1528200 w 1527840"/>
                  <a:gd name="textAreaTop" fmla="*/ 0 h 2225520"/>
                  <a:gd name="textAreaBottom" fmla="*/ 2225880 h 2225520"/>
                </a:gdLst>
                <a:ahLst/>
                <a:rect l="textAreaLeft" t="textAreaTop" r="textAreaRight" b="textAreaBottom"/>
                <a:pathLst>
                  <a:path fill="none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</a:path>
                  <a:path stroke="0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  <a:lnTo>
                      <a:pt x="0" y="14451"/>
                    </a:lnTo>
                    <a:lnTo>
                      <a:pt x="16053" y="0"/>
                    </a:lnTo>
                    <a:close/>
                  </a:path>
                </a:pathLst>
              </a:custGeom>
              <a:noFill/>
              <a:ln w="19080">
                <a:solidFill>
                  <a:srgbClr val="33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Arc 30"/>
              <p:cNvSpPr/>
              <p:nvPr/>
            </p:nvSpPr>
            <p:spPr>
              <a:xfrm rot="2524800">
                <a:off x="428760" y="-399600"/>
                <a:ext cx="1266840" cy="2084400"/>
              </a:xfrm>
              <a:custGeom>
                <a:avLst/>
                <a:gdLst>
                  <a:gd name="textAreaLeft" fmla="*/ 0 w 1266840"/>
                  <a:gd name="textAreaRight" fmla="*/ 1267200 w 1266840"/>
                  <a:gd name="textAreaTop" fmla="*/ 0 h 2084400"/>
                  <a:gd name="textAreaBottom" fmla="*/ 2084400 h 2084400"/>
                </a:gdLst>
                <a:ahLst/>
                <a:rect l="textAreaLeft" t="textAreaTop" r="textAreaRight" b="textAreaBottom"/>
                <a:pathLst>
                  <a:path fill="none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</a:path>
                  <a:path stroke="0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  <a:lnTo>
                      <a:pt x="0" y="16300"/>
                    </a:lnTo>
                    <a:lnTo>
                      <a:pt x="14172" y="0"/>
                    </a:lnTo>
                    <a:close/>
                  </a:path>
                </a:pathLst>
              </a:custGeom>
              <a:noFill/>
              <a:ln w="1908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7" name="Oval 33"/>
            <p:cNvSpPr/>
            <p:nvPr/>
          </p:nvSpPr>
          <p:spPr>
            <a:xfrm>
              <a:off x="7810560" y="6478560"/>
              <a:ext cx="501480" cy="34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33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Line 35"/>
            <p:cNvSpPr/>
            <p:nvPr/>
          </p:nvSpPr>
          <p:spPr>
            <a:xfrm>
              <a:off x="1692360" y="673200"/>
              <a:ext cx="745164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Line 36"/>
            <p:cNvSpPr/>
            <p:nvPr/>
          </p:nvSpPr>
          <p:spPr>
            <a:xfrm>
              <a:off x="1692360" y="620640"/>
              <a:ext cx="7451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Verdana"/>
              </a:rPr>
              <a:t>Порядок работ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 Наличие одного компьютера(для учителя) и проектор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Приёмник сигналов и программное обеспечен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Беспроводные пульты с индивидуальными чипам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642960" y="347760"/>
            <a:ext cx="785808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642960" y="189000"/>
            <a:ext cx="7858080" cy="5919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3059280" y="2817720"/>
            <a:ext cx="5352840" cy="32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14040"/>
            <a:ext cx="932508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Verdana"/>
              </a:rPr>
              <a:t>Отчёт о результатах тестир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2" descr="C:\Users\Lenovo\Pictures\скрин результаты.png"/>
          <p:cNvPicPr/>
          <p:nvPr/>
        </p:nvPicPr>
        <p:blipFill>
          <a:blip r:embed="rId1"/>
          <a:stretch/>
        </p:blipFill>
        <p:spPr>
          <a:xfrm>
            <a:off x="903240" y="1031760"/>
            <a:ext cx="7705800" cy="5722920"/>
          </a:xfrm>
          <a:prstGeom prst="rect">
            <a:avLst/>
          </a:prstGeom>
          <a:ln w="9360">
            <a:solidFill>
              <a:srgbClr val="ff99ff"/>
            </a:solidFill>
            <a:miter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406760" cy="4084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2"/>
          <a:stretch/>
        </p:blipFill>
        <p:spPr>
          <a:xfrm>
            <a:off x="4464000" y="3357720"/>
            <a:ext cx="41799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4500720" y="262080"/>
            <a:ext cx="4348080" cy="3135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2"/>
          <a:stretch/>
        </p:blipFill>
        <p:spPr>
          <a:xfrm>
            <a:off x="233280" y="3343320"/>
            <a:ext cx="4122720" cy="2949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3"/>
          <a:stretch/>
        </p:blipFill>
        <p:spPr>
          <a:xfrm>
            <a:off x="4356000" y="3403440"/>
            <a:ext cx="4492800" cy="2889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4"/>
          <a:stretch/>
        </p:blipFill>
        <p:spPr>
          <a:xfrm>
            <a:off x="187200" y="171360"/>
            <a:ext cx="431352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Verdana"/>
              </a:rPr>
              <a:t>Проблема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Способы выявления качества знаний обучающихс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Поиск оптимальных форм контроля знан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Оценивание качества знан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14"/>
          <p:cNvSpPr/>
          <p:nvPr/>
        </p:nvSpPr>
        <p:spPr>
          <a:xfrm>
            <a:off x="644400" y="2852640"/>
            <a:ext cx="288000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1643040" y="64296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Verdana"/>
              </a:rPr>
              <a:t>ТРАДИ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19" descr="http://im1-tub-ru.yandex.net/i?id=fd7dea0877f3ea8da9991802ad1681b7-55-144&amp;n=21"/>
          <p:cNvPicPr/>
          <p:nvPr/>
        </p:nvPicPr>
        <p:blipFill>
          <a:blip r:embed="rId1"/>
          <a:stretch/>
        </p:blipFill>
        <p:spPr>
          <a:xfrm>
            <a:off x="392040" y="1643040"/>
            <a:ext cx="2608200" cy="292896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21"/>
          <p:cNvGrpSpPr/>
          <p:nvPr/>
        </p:nvGrpSpPr>
        <p:grpSpPr>
          <a:xfrm>
            <a:off x="-308520" y="-759960"/>
            <a:ext cx="9452520" cy="7617960"/>
            <a:chOff x="-308520" y="-759960"/>
            <a:chExt cx="9452520" cy="7617960"/>
          </a:xfrm>
        </p:grpSpPr>
        <p:sp>
          <p:nvSpPr>
            <p:cNvPr id="106" name="Line 22"/>
            <p:cNvSpPr/>
            <p:nvPr/>
          </p:nvSpPr>
          <p:spPr>
            <a:xfrm>
              <a:off x="0" y="6392880"/>
              <a:ext cx="8675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Line 23"/>
            <p:cNvSpPr/>
            <p:nvPr/>
          </p:nvSpPr>
          <p:spPr>
            <a:xfrm>
              <a:off x="0" y="6443640"/>
              <a:ext cx="88930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Line 24"/>
            <p:cNvSpPr/>
            <p:nvPr/>
          </p:nvSpPr>
          <p:spPr>
            <a:xfrm>
              <a:off x="290520" y="1268280"/>
              <a:ext cx="0" cy="558972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Line 25"/>
            <p:cNvSpPr/>
            <p:nvPr/>
          </p:nvSpPr>
          <p:spPr>
            <a:xfrm>
              <a:off x="236520" y="1196280"/>
              <a:ext cx="0" cy="56610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0" name="Group 26"/>
            <p:cNvGrpSpPr/>
            <p:nvPr/>
          </p:nvGrpSpPr>
          <p:grpSpPr>
            <a:xfrm>
              <a:off x="-308520" y="-759960"/>
              <a:ext cx="2625480" cy="2675880"/>
              <a:chOff x="-308520" y="-759960"/>
              <a:chExt cx="2625480" cy="2675880"/>
            </a:xfrm>
          </p:grpSpPr>
          <p:sp>
            <p:nvSpPr>
              <p:cNvPr id="111" name="Arc 27"/>
              <p:cNvSpPr/>
              <p:nvPr/>
            </p:nvSpPr>
            <p:spPr>
              <a:xfrm rot="2524800">
                <a:off x="149040" y="-325440"/>
                <a:ext cx="1509120" cy="1845000"/>
              </a:xfrm>
              <a:custGeom>
                <a:avLst/>
                <a:gdLst>
                  <a:gd name="textAreaLeft" fmla="*/ 0 w 1509120"/>
                  <a:gd name="textAreaRight" fmla="*/ 1509480 w 1509120"/>
                  <a:gd name="textAreaTop" fmla="*/ 0 h 1845000"/>
                  <a:gd name="textAreaBottom" fmla="*/ 1845360 h 18450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</a:path>
                  <a:path stroke="0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  <a:lnTo>
                      <a:pt x="21600" y="21600"/>
                    </a:lnTo>
                    <a:lnTo>
                      <a:pt x="31119" y="2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2" name="Picture 28" descr="j0395941%5b1%5d"/>
              <p:cNvPicPr/>
              <p:nvPr/>
            </p:nvPicPr>
            <p:blipFill>
              <a:blip r:embed="rId2"/>
              <a:stretch/>
            </p:blipFill>
            <p:spPr>
              <a:xfrm>
                <a:off x="27000" y="8280"/>
                <a:ext cx="1504800" cy="119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Arc 29"/>
              <p:cNvSpPr/>
              <p:nvPr/>
            </p:nvSpPr>
            <p:spPr>
              <a:xfrm rot="2524800">
                <a:off x="240120" y="-534600"/>
                <a:ext cx="1527840" cy="2225520"/>
              </a:xfrm>
              <a:custGeom>
                <a:avLst/>
                <a:gdLst>
                  <a:gd name="textAreaLeft" fmla="*/ 0 w 1527840"/>
                  <a:gd name="textAreaRight" fmla="*/ 1528200 w 1527840"/>
                  <a:gd name="textAreaTop" fmla="*/ 0 h 2225520"/>
                  <a:gd name="textAreaBottom" fmla="*/ 2225880 h 2225520"/>
                </a:gdLst>
                <a:ahLst/>
                <a:rect l="textAreaLeft" t="textAreaTop" r="textAreaRight" b="textAreaBottom"/>
                <a:pathLst>
                  <a:path fill="none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</a:path>
                  <a:path stroke="0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  <a:lnTo>
                      <a:pt x="0" y="14451"/>
                    </a:lnTo>
                    <a:lnTo>
                      <a:pt x="16053" y="0"/>
                    </a:lnTo>
                    <a:close/>
                  </a:path>
                </a:pathLst>
              </a:custGeom>
              <a:noFill/>
              <a:ln w="19080">
                <a:solidFill>
                  <a:srgbClr val="33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Arc 30"/>
              <p:cNvSpPr/>
              <p:nvPr/>
            </p:nvSpPr>
            <p:spPr>
              <a:xfrm rot="2524800">
                <a:off x="428760" y="-399600"/>
                <a:ext cx="1266840" cy="2084400"/>
              </a:xfrm>
              <a:custGeom>
                <a:avLst/>
                <a:gdLst>
                  <a:gd name="textAreaLeft" fmla="*/ 0 w 1266840"/>
                  <a:gd name="textAreaRight" fmla="*/ 1267200 w 1266840"/>
                  <a:gd name="textAreaTop" fmla="*/ 0 h 2084400"/>
                  <a:gd name="textAreaBottom" fmla="*/ 2084400 h 2084400"/>
                </a:gdLst>
                <a:ahLst/>
                <a:rect l="textAreaLeft" t="textAreaTop" r="textAreaRight" b="textAreaBottom"/>
                <a:pathLst>
                  <a:path fill="none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</a:path>
                  <a:path stroke="0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  <a:lnTo>
                      <a:pt x="0" y="16300"/>
                    </a:lnTo>
                    <a:lnTo>
                      <a:pt x="14172" y="0"/>
                    </a:lnTo>
                    <a:close/>
                  </a:path>
                </a:pathLst>
              </a:custGeom>
              <a:noFill/>
              <a:ln w="1908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5" name="Oval 33"/>
            <p:cNvSpPr/>
            <p:nvPr/>
          </p:nvSpPr>
          <p:spPr>
            <a:xfrm>
              <a:off x="7810560" y="6478560"/>
              <a:ext cx="501480" cy="34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33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Line 35"/>
            <p:cNvSpPr/>
            <p:nvPr/>
          </p:nvSpPr>
          <p:spPr>
            <a:xfrm>
              <a:off x="1692360" y="673200"/>
              <a:ext cx="745164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Line 36"/>
            <p:cNvSpPr/>
            <p:nvPr/>
          </p:nvSpPr>
          <p:spPr>
            <a:xfrm>
              <a:off x="1692360" y="620640"/>
              <a:ext cx="7451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8" name="Picture 21" descr="http://im1-tub-ru.yandex.net/i?id=58fc853ec26b7e82d29bb6daa575a5da-135-144&amp;n=21"/>
          <p:cNvPicPr/>
          <p:nvPr/>
        </p:nvPicPr>
        <p:blipFill>
          <a:blip r:embed="rId3"/>
          <a:stretch/>
        </p:blipFill>
        <p:spPr>
          <a:xfrm>
            <a:off x="3286080" y="3857760"/>
            <a:ext cx="2857680" cy="2428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" descr="http://im1-tub-ru.yandex.net/i?id=de755d2fa5ae5455d7740e2bb58bed22-101-144&amp;n=21"/>
          <p:cNvPicPr/>
          <p:nvPr/>
        </p:nvPicPr>
        <p:blipFill>
          <a:blip r:embed="rId4"/>
          <a:stretch/>
        </p:blipFill>
        <p:spPr>
          <a:xfrm>
            <a:off x="6637320" y="2000160"/>
            <a:ext cx="2506680" cy="2428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5" descr="http://im0-tub-ru.yandex.net/i?id=e323e3d815fe9ad09e762579edf4d1b4-19-144&amp;n=21"/>
          <p:cNvPicPr/>
          <p:nvPr/>
        </p:nvPicPr>
        <p:blipFill>
          <a:blip r:embed="rId5"/>
          <a:stretch/>
        </p:blipFill>
        <p:spPr>
          <a:xfrm>
            <a:off x="3143160" y="1500120"/>
            <a:ext cx="2943360" cy="1928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14"/>
          <p:cNvSpPr/>
          <p:nvPr/>
        </p:nvSpPr>
        <p:spPr>
          <a:xfrm>
            <a:off x="644400" y="2852640"/>
            <a:ext cx="288000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785880" y="642960"/>
            <a:ext cx="81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6699"/>
                </a:solidFill>
                <a:latin typeface="Verdana"/>
              </a:rPr>
              <a:t>Современност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21"/>
          <p:cNvGrpSpPr/>
          <p:nvPr/>
        </p:nvGrpSpPr>
        <p:grpSpPr>
          <a:xfrm>
            <a:off x="-308520" y="-759960"/>
            <a:ext cx="9452520" cy="7627320"/>
            <a:chOff x="-308520" y="-759960"/>
            <a:chExt cx="9452520" cy="7627320"/>
          </a:xfrm>
        </p:grpSpPr>
        <p:sp>
          <p:nvSpPr>
            <p:cNvPr id="124" name="Line 22"/>
            <p:cNvSpPr/>
            <p:nvPr/>
          </p:nvSpPr>
          <p:spPr>
            <a:xfrm>
              <a:off x="0" y="6392880"/>
              <a:ext cx="8675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23"/>
            <p:cNvSpPr/>
            <p:nvPr/>
          </p:nvSpPr>
          <p:spPr>
            <a:xfrm>
              <a:off x="0" y="6443640"/>
              <a:ext cx="88930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24"/>
            <p:cNvSpPr/>
            <p:nvPr/>
          </p:nvSpPr>
          <p:spPr>
            <a:xfrm>
              <a:off x="290520" y="1268280"/>
              <a:ext cx="0" cy="558972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25"/>
            <p:cNvSpPr/>
            <p:nvPr/>
          </p:nvSpPr>
          <p:spPr>
            <a:xfrm>
              <a:off x="236520" y="1196280"/>
              <a:ext cx="0" cy="56610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8" name="Group 26"/>
            <p:cNvGrpSpPr/>
            <p:nvPr/>
          </p:nvGrpSpPr>
          <p:grpSpPr>
            <a:xfrm>
              <a:off x="-308520" y="-759960"/>
              <a:ext cx="2625480" cy="2675880"/>
              <a:chOff x="-308520" y="-759960"/>
              <a:chExt cx="2625480" cy="2675880"/>
            </a:xfrm>
          </p:grpSpPr>
          <p:sp>
            <p:nvSpPr>
              <p:cNvPr id="129" name="Arc 27"/>
              <p:cNvSpPr/>
              <p:nvPr/>
            </p:nvSpPr>
            <p:spPr>
              <a:xfrm rot="2524800">
                <a:off x="149040" y="-325440"/>
                <a:ext cx="1509120" cy="1845000"/>
              </a:xfrm>
              <a:custGeom>
                <a:avLst/>
                <a:gdLst>
                  <a:gd name="textAreaLeft" fmla="*/ 0 w 1509120"/>
                  <a:gd name="textAreaRight" fmla="*/ 1509480 w 1509120"/>
                  <a:gd name="textAreaTop" fmla="*/ 0 h 1845000"/>
                  <a:gd name="textAreaBottom" fmla="*/ 1845360 h 18450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</a:path>
                  <a:path stroke="0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  <a:lnTo>
                      <a:pt x="21600" y="21600"/>
                    </a:lnTo>
                    <a:lnTo>
                      <a:pt x="31119" y="2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0" name="Picture 28" descr="j0395941%5b1%5d"/>
              <p:cNvPicPr/>
              <p:nvPr/>
            </p:nvPicPr>
            <p:blipFill>
              <a:blip r:embed="rId1"/>
              <a:stretch/>
            </p:blipFill>
            <p:spPr>
              <a:xfrm>
                <a:off x="27000" y="8280"/>
                <a:ext cx="1504800" cy="119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Arc 29"/>
              <p:cNvSpPr/>
              <p:nvPr/>
            </p:nvSpPr>
            <p:spPr>
              <a:xfrm rot="2524800">
                <a:off x="240120" y="-534600"/>
                <a:ext cx="1527840" cy="2225520"/>
              </a:xfrm>
              <a:custGeom>
                <a:avLst/>
                <a:gdLst>
                  <a:gd name="textAreaLeft" fmla="*/ 0 w 1527840"/>
                  <a:gd name="textAreaRight" fmla="*/ 1528200 w 1527840"/>
                  <a:gd name="textAreaTop" fmla="*/ 0 h 2225520"/>
                  <a:gd name="textAreaBottom" fmla="*/ 2225880 h 2225520"/>
                </a:gdLst>
                <a:ahLst/>
                <a:rect l="textAreaLeft" t="textAreaTop" r="textAreaRight" b="textAreaBottom"/>
                <a:pathLst>
                  <a:path fill="none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</a:path>
                  <a:path stroke="0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  <a:lnTo>
                      <a:pt x="0" y="14451"/>
                    </a:lnTo>
                    <a:lnTo>
                      <a:pt x="16053" y="0"/>
                    </a:lnTo>
                    <a:close/>
                  </a:path>
                </a:pathLst>
              </a:custGeom>
              <a:noFill/>
              <a:ln w="19080">
                <a:solidFill>
                  <a:srgbClr val="33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Arc 30"/>
              <p:cNvSpPr/>
              <p:nvPr/>
            </p:nvSpPr>
            <p:spPr>
              <a:xfrm rot="2524800">
                <a:off x="428760" y="-399600"/>
                <a:ext cx="1266840" cy="2084400"/>
              </a:xfrm>
              <a:custGeom>
                <a:avLst/>
                <a:gdLst>
                  <a:gd name="textAreaLeft" fmla="*/ 0 w 1266840"/>
                  <a:gd name="textAreaRight" fmla="*/ 1267200 w 1266840"/>
                  <a:gd name="textAreaTop" fmla="*/ 0 h 2084400"/>
                  <a:gd name="textAreaBottom" fmla="*/ 2084400 h 2084400"/>
                </a:gdLst>
                <a:ahLst/>
                <a:rect l="textAreaLeft" t="textAreaTop" r="textAreaRight" b="textAreaBottom"/>
                <a:pathLst>
                  <a:path fill="none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</a:path>
                  <a:path stroke="0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  <a:lnTo>
                      <a:pt x="0" y="16300"/>
                    </a:lnTo>
                    <a:lnTo>
                      <a:pt x="14172" y="0"/>
                    </a:lnTo>
                    <a:close/>
                  </a:path>
                </a:pathLst>
              </a:custGeom>
              <a:noFill/>
              <a:ln w="1908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3" name="Group 32"/>
            <p:cNvGrpSpPr/>
            <p:nvPr/>
          </p:nvGrpSpPr>
          <p:grpSpPr>
            <a:xfrm>
              <a:off x="7770960" y="6453360"/>
              <a:ext cx="576000" cy="414000"/>
              <a:chOff x="7770960" y="6453360"/>
              <a:chExt cx="576000" cy="414000"/>
            </a:xfrm>
          </p:grpSpPr>
          <p:sp>
            <p:nvSpPr>
              <p:cNvPr id="134" name="Oval 33"/>
              <p:cNvSpPr/>
              <p:nvPr/>
            </p:nvSpPr>
            <p:spPr>
              <a:xfrm>
                <a:off x="7810560" y="6478560"/>
                <a:ext cx="501480" cy="347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5400000" blurRad="0" rotWithShape="0">
                  <a:srgbClr val="336699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5" name="Picture 34" descr=""/>
              <p:cNvPicPr/>
              <p:nvPr/>
            </p:nvPicPr>
            <p:blipFill>
              <a:blip r:embed="rId2"/>
              <a:srcRect l="0" t="-3520" r="0" b="0"/>
              <a:stretch/>
            </p:blipFill>
            <p:spPr>
              <a:xfrm>
                <a:off x="7770960" y="6453360"/>
                <a:ext cx="576000" cy="414000"/>
              </a:xfrm>
              <a:prstGeom prst="rect">
                <a:avLst/>
              </a:prstGeom>
              <a:ln w="0">
                <a:noFill/>
              </a:ln>
              <a:effectLst>
                <a:outerShdw dist="12600" dir="5400000" blurRad="0" rotWithShape="0">
                  <a:srgbClr val="336699">
                    <a:alpha val="50000"/>
                  </a:srgbClr>
                </a:outerShdw>
              </a:effectLst>
            </p:spPr>
          </p:pic>
        </p:grpSp>
        <p:sp>
          <p:nvSpPr>
            <p:cNvPr id="136" name="Line 35"/>
            <p:cNvSpPr/>
            <p:nvPr/>
          </p:nvSpPr>
          <p:spPr>
            <a:xfrm>
              <a:off x="1692360" y="673200"/>
              <a:ext cx="745164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Line 36"/>
            <p:cNvSpPr/>
            <p:nvPr/>
          </p:nvSpPr>
          <p:spPr>
            <a:xfrm>
              <a:off x="1692360" y="620640"/>
              <a:ext cx="7451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8" name="Picture 2" descr=""/>
          <p:cNvPicPr/>
          <p:nvPr/>
        </p:nvPicPr>
        <p:blipFill>
          <a:blip r:embed="rId3"/>
          <a:stretch/>
        </p:blipFill>
        <p:spPr>
          <a:xfrm>
            <a:off x="2268360" y="1617840"/>
            <a:ext cx="4535640" cy="4997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4"/>
          <a:stretch/>
        </p:blipFill>
        <p:spPr>
          <a:xfrm>
            <a:off x="539640" y="4089240"/>
            <a:ext cx="2733840" cy="2468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5"/>
          <a:stretch/>
        </p:blipFill>
        <p:spPr>
          <a:xfrm>
            <a:off x="6389640" y="4149720"/>
            <a:ext cx="2584440" cy="2408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Verdana"/>
              </a:rPr>
              <a:t>«Система контроля и мониторинга качества знаний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PROClass</a:t>
            </a:r>
            <a:r>
              <a:rPr b="1" lang="ru-RU" sz="2800" spc="-1" strike="noStrike">
                <a:solidFill>
                  <a:srgbClr val="0070c0"/>
                </a:solidFill>
                <a:latin typeface="Verdan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интерактивная система тестирования, предназначенная дл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оперативной проверки знани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учающихся. С её помощью проводится текущий, тематический и итоговый контроль знаний и мониторинг образовательных достижений обучающих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Verdana"/>
              </a:rPr>
              <a:t>Преимущества системы </a:t>
            </a:r>
            <a:r>
              <a:rPr b="1" lang="en-US" sz="3600" spc="-1" strike="noStrike">
                <a:solidFill>
                  <a:srgbClr val="7030a0"/>
                </a:solidFill>
                <a:latin typeface="Verdana"/>
              </a:rPr>
              <a:t>PROCla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9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  <a:ea typeface="Arial"/>
              </a:rPr>
              <a:t>Индивидуальная, парная и  групповая рабо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9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  <a:ea typeface="Arial"/>
              </a:rPr>
              <a:t>Контроль знан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28" descr="j0395941%5b1%5d"/>
          <p:cNvPicPr/>
          <p:nvPr/>
        </p:nvPicPr>
        <p:blipFill>
          <a:blip r:embed="rId1"/>
          <a:stretch/>
        </p:blipFill>
        <p:spPr>
          <a:xfrm>
            <a:off x="0" y="0"/>
            <a:ext cx="150480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5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Verdana"/>
              </a:rPr>
              <a:t>Возможности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85840" y="1643040"/>
            <a:ext cx="857232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вать собственные тест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ыстро и эффективно проводить текущий, тематический и итоговый контроль знаний, не нарушая целостности образовательного процесса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удобной форме осуществлять контроль присутствия обучающихс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хранять в памяти компьютера Базу данных, наполняя портфолио учебных достижений учени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одить мониторинг качества знаний обучающегося в течение всего периода обуч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Verdana"/>
              </a:rPr>
              <a:t>Принципы работы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Verdana"/>
              </a:rPr>
              <a:t>1. Интерактивность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Verdana"/>
              </a:rPr>
              <a:t>2. Доступность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Verdana"/>
              </a:rPr>
              <a:t>3. Ситуация успеха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rcRect l="0" t="27021" r="0" b="0"/>
          <a:stretch/>
        </p:blipFill>
        <p:spPr>
          <a:xfrm>
            <a:off x="395280" y="1989000"/>
            <a:ext cx="8209080" cy="425628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1"/>
          <p:cNvSpPr/>
          <p:nvPr/>
        </p:nvSpPr>
        <p:spPr>
          <a:xfrm>
            <a:off x="919440" y="476280"/>
            <a:ext cx="647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Система </a:t>
            </a:r>
            <a:r>
              <a:rPr b="1" lang="en-US" sz="2400" spc="-1" strike="noStrike">
                <a:solidFill>
                  <a:srgbClr val="002060"/>
                </a:solidFill>
                <a:latin typeface="Verdana"/>
              </a:rPr>
              <a:t>PROClass</a:t>
            </a: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 представл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программно-аппаратным комплексом</a:t>
            </a:r>
            <a:r>
              <a:rPr b="1" lang="en-US" sz="24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12:07:59Z</dcterms:created>
  <dc:creator>DESIGN</dc:creator>
  <dc:description/>
  <dc:language>en-US</dc:language>
  <cp:lastModifiedBy>user</cp:lastModifiedBy>
  <dcterms:modified xsi:type="dcterms:W3CDTF">2017-11-06T06:37:33Z</dcterms:modified>
  <cp:revision>52</cp:revision>
  <dc:subject/>
  <dc:title>Слайд 1</dc:title>
</cp:coreProperties>
</file>